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907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11040" y="744120"/>
            <a:ext cx="25765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06CA-63E1-41D5-8772-C169B293E23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2111400" y="744480"/>
            <a:ext cx="2576520" cy="372276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EC18-DA54-4754-BCF7-F27D433D5AC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EE0E-D9C3-4151-9838-590A687AE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617544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1280" y="5725800"/>
            <a:ext cx="617544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3902-D16D-4AE2-B72D-8009FF80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604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1280" y="57258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6040" y="57258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71DF-32B1-4E5C-B5B3-D1467A30A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280" y="23112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7280" y="23112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1280" y="57258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280" y="57258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7280" y="5725800"/>
            <a:ext cx="19882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77F9-2D99-455D-AA76-37C7DDB4F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1280" y="2311200"/>
            <a:ext cx="617544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680E-39AF-4CAD-AAE4-4DAB82D9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617544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8FC2-C071-415E-9B7F-36E26FAB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30135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6040" y="2311200"/>
            <a:ext cx="30135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B397-4332-42E5-A80D-2609BCDD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1AF8-60DA-4D7B-91D0-1C45C8E3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1280" y="395280"/>
            <a:ext cx="61754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9DBF-D6FC-4AB8-A2CD-B228ADB6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6040" y="2311200"/>
            <a:ext cx="30135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1280" y="57258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CB42-CB63-4E7E-9C5B-1F32F857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30135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604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6040" y="57258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EC8C-7905-4AD6-B4BF-F434748C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128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6040" y="2311200"/>
            <a:ext cx="301356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1280" y="5725800"/>
            <a:ext cx="617544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0D2F-ED01-4F93-8CA2-DC0081F0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1280" y="395280"/>
            <a:ext cx="617544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1280" y="2311200"/>
            <a:ext cx="617544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31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1280" y="9019800"/>
            <a:ext cx="1603440" cy="6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Allegato 2.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3280" y="9019800"/>
            <a:ext cx="1603440" cy="6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145A36A-A659-4218-A70C-58365C3EF7A0}" type="slidenum">
              <a:rPr b="0" lang="it-IT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141720" y="6537240"/>
            <a:ext cx="3403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516480" y="5964120"/>
            <a:ext cx="3341520" cy="389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Elezione di 28 componenti del CNSU iscritti ad un corso di laurea,  di laurea magistrale, di laurea magistrale a ciclo unico o a corsi di laurea di precedenti ordinamen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Università degli Studi di…….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…………………………………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ede di……..…………………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eggio N°…….………………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Firma del Presidente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egnaposto piè di pagina 1"/>
          <p:cNvSpPr/>
          <p:nvPr/>
        </p:nvSpPr>
        <p:spPr>
          <a:xfrm>
            <a:off x="189000" y="8985240"/>
            <a:ext cx="217152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llegato 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asellaDiTesto 2"/>
          <p:cNvSpPr/>
          <p:nvPr/>
        </p:nvSpPr>
        <p:spPr>
          <a:xfrm>
            <a:off x="4231440" y="415800"/>
            <a:ext cx="1630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Lato estern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Ovale 1"/>
          <p:cNvSpPr/>
          <p:nvPr/>
        </p:nvSpPr>
        <p:spPr>
          <a:xfrm>
            <a:off x="293760" y="4761000"/>
            <a:ext cx="576360" cy="576000"/>
          </a:xfrm>
          <a:prstGeom prst="ellipse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egnaposto piè di pagina 1"/>
          <p:cNvSpPr/>
          <p:nvPr/>
        </p:nvSpPr>
        <p:spPr>
          <a:xfrm>
            <a:off x="485640" y="8842320"/>
            <a:ext cx="2171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8000"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legato 2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asellaDiTesto 2"/>
          <p:cNvSpPr/>
          <p:nvPr/>
        </p:nvSpPr>
        <p:spPr>
          <a:xfrm>
            <a:off x="497160" y="3903840"/>
            <a:ext cx="2253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Simbolo o casell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(vuota in caso di assenza di simbol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ttangolo 3"/>
          <p:cNvSpPr/>
          <p:nvPr/>
        </p:nvSpPr>
        <p:spPr>
          <a:xfrm>
            <a:off x="1052640" y="4689360"/>
            <a:ext cx="2663640" cy="7192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ttangolo 4"/>
          <p:cNvSpPr/>
          <p:nvPr/>
        </p:nvSpPr>
        <p:spPr>
          <a:xfrm rot="10800000">
            <a:off x="3847680" y="4689360"/>
            <a:ext cx="2825640" cy="7192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…………………………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ttangolo 1"/>
          <p:cNvSpPr/>
          <p:nvPr/>
        </p:nvSpPr>
        <p:spPr>
          <a:xfrm>
            <a:off x="468360" y="8553600"/>
            <a:ext cx="58323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PRIMO LEMBO DA PIEG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asellaDiTesto 2"/>
          <p:cNvSpPr/>
          <p:nvPr/>
        </p:nvSpPr>
        <p:spPr>
          <a:xfrm>
            <a:off x="4662360" y="1208160"/>
            <a:ext cx="157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Lato intern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asellaDiTesto 3"/>
          <p:cNvSpPr/>
          <p:nvPr/>
        </p:nvSpPr>
        <p:spPr>
          <a:xfrm>
            <a:off x="1052640" y="4437000"/>
            <a:ext cx="273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ENOMINAZIONE DELLA LIS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asellaDiTesto 4"/>
          <p:cNvSpPr/>
          <p:nvPr/>
        </p:nvSpPr>
        <p:spPr>
          <a:xfrm>
            <a:off x="3813120" y="4437000"/>
            <a:ext cx="302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VOTO DI PREFERENZA PER UN CANDIDA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e 1"/>
          <p:cNvSpPr/>
          <p:nvPr/>
        </p:nvSpPr>
        <p:spPr>
          <a:xfrm>
            <a:off x="297000" y="5700600"/>
            <a:ext cx="576000" cy="576360"/>
          </a:xfrm>
          <a:prstGeom prst="ellipse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ttangolo 3"/>
          <p:cNvSpPr/>
          <p:nvPr/>
        </p:nvSpPr>
        <p:spPr>
          <a:xfrm>
            <a:off x="1052640" y="5602320"/>
            <a:ext cx="2663640" cy="7192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ttangolo 4"/>
          <p:cNvSpPr/>
          <p:nvPr/>
        </p:nvSpPr>
        <p:spPr>
          <a:xfrm rot="10800000">
            <a:off x="3847680" y="5602320"/>
            <a:ext cx="2825640" cy="7192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…………………………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e 1"/>
          <p:cNvSpPr/>
          <p:nvPr/>
        </p:nvSpPr>
        <p:spPr>
          <a:xfrm>
            <a:off x="297000" y="6545160"/>
            <a:ext cx="576000" cy="576360"/>
          </a:xfrm>
          <a:prstGeom prst="ellipse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ttangolo 3"/>
          <p:cNvSpPr/>
          <p:nvPr/>
        </p:nvSpPr>
        <p:spPr>
          <a:xfrm>
            <a:off x="1052640" y="6473880"/>
            <a:ext cx="2663640" cy="7189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ttangolo 4"/>
          <p:cNvSpPr/>
          <p:nvPr/>
        </p:nvSpPr>
        <p:spPr>
          <a:xfrm rot="10800000">
            <a:off x="3847680" y="6473520"/>
            <a:ext cx="2825640" cy="7189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…………………………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13:47:32Z</dcterms:created>
  <dc:creator>Fabrizio</dc:creator>
  <dc:description/>
  <dc:language>en-US</dc:language>
  <cp:lastModifiedBy>HP</cp:lastModifiedBy>
  <cp:lastPrinted>2019-04-08T14:26:55Z</cp:lastPrinted>
  <dcterms:modified xsi:type="dcterms:W3CDTF">2022-02-15T08:24:53Z</dcterms:modified>
  <cp:revision>82</cp:revision>
  <dc:subject/>
  <dc:title>Diapositiva 1</dc:title>
</cp:coreProperties>
</file>